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558-4CB4-4CB3-A02E-F4C80D20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C69-1320-4990-8029-B4FBB9A1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029-B4DD-484F-A2AD-EC65765A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6BA-BFFA-4E2E-8425-FA8891CF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BB6-FCFF-4BE5-AAC6-1503EFD5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8A6-7F0A-4F4A-96CD-81640AA9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711-AAE9-4312-AF0B-C489703C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755-0715-4D96-91B1-2727A5C9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409-4C7F-4027-97B4-86B4980F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558-6DBC-47A1-B2FE-360F9B52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42C-4D5D-45E9-918B-5DFEBADB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9A7-B41F-4219-8341-DF63D148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37BA-B522-45C2-9374-2F66F3E14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dame 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ame BF, âgée de 85 ans, vient à l’hôpital de jour, amenée par sa fille pour une évaluation cognitive suite à l’apparition de troubles mnésiq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stoire de la maladie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ille de madame BF évoque l’apparition insidieuse il y a 1an ½ de troubles de la mémoire des faits ré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chute 4 mois auparavant alors qu’elle marchait dans la rue : sensation de dérobement des jambes avec impossibilité de marcher pendant quelques minu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ué a avoir des difficultés dans la marche pendant environ 1 mois bien qu’elle a bénéficié d’une réédu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troubles de la mémoire se sont aggravés suite à cette chute lors d’un épisode de dépression: ne mangeait plus, anhéd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pparaît également un problème d’hygiène et d’alimen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écédent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pisode de chute il y a 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TA depuis environ 20 ans trait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ypercholestérolé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ernie his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iabète non insulino-dépe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de de vi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it seule en pavi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C= C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Femme de ménage 2 fois /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Pas de problème d’amé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e gère plus son budget depuis 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Fait une partie des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en des fonctions supérie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MS= 14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ion temporelle = 0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ion spatiale = 1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pétition des 3 mots = 3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 = 2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pel des 3 mots = 0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nomination = 2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pétition de la phrase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res successifs = 3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 Fermez les yeux »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criture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sin = 0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mots de Dubois = 3/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1 : 2 ; RI1 :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2 : 0 ; RI2 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6:59:04Z</dcterms:created>
  <dc:creator>claire</dc:creator>
  <dc:description/>
  <dc:language>en-US</dc:language>
  <cp:lastModifiedBy>claire</cp:lastModifiedBy>
  <dcterms:modified xsi:type="dcterms:W3CDTF">2004-05-09T14:28:39Z</dcterms:modified>
  <cp:revision>12</cp:revision>
  <dc:subject/>
  <dc:title>Madame IS</dc:title>
</cp:coreProperties>
</file>